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6D34D-F307-4759-8530-22FBDE5A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E547D-E62E-4114-AF1E-3D7CE1C3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32CA5-F8ED-4900-922D-3383B794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57813-BE06-43A3-A634-935B4E62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AEF8A-3201-4BF4-A9DC-DCD54A7B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45C6D-84CC-4368-BC06-9C42E824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59F20-111B-4EA0-A366-E140F6DE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240DD-5F74-4D56-BEA0-CD9DFEA9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CAADC-A8F5-4B90-9124-4813D420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9DB2F-767A-4DBA-86A1-96253DE7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7AD29-F51B-47BE-81DB-B903C488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1AB8E-1896-428E-A23C-DBE806F7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8E01-C85F-497F-94E8-75A4FAD2E2C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38080" y="2133720"/>
          <a:ext cx="693432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343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37040" y="303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1840" y="4266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560" y="43430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4440" y="25142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un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7360" y="12942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epared by Fried Augenbro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1981080"/>
          <a:ext cx="2809800" cy="14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981080"/>
                    <a:ext cx="280980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34120" y="4800600"/>
          <a:ext cx="1962000" cy="16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4800600"/>
                    <a:ext cx="19620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1293840"/>
            <a:ext cx="6705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1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is from a non-managed ‘upstream’ structural layout actor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e file describes an analysis model of a simple 2D frame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85440"/>
            <a:ext cx="761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2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the result of three managed data transactions by Organization 1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import of File 1 with a STEP file im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load data with a CIS/2 Data Management Compliant (DMC) application Soft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2 with managed data using the SoftX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9720" y="357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352680" y="3352680"/>
          <a:ext cx="2028960" cy="138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352680"/>
                    <a:ext cx="2028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1286640"/>
            <a:ext cx="792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3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contains the result of three managed data transactions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new data: cross-sections of the two columns and the beam. This is done with the DMC application Soft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modifications of the imported analysis model to allow the inclusion of the element cross section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3 with managed data using the SoftY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3640" y="417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Eastman</cp:lastModifiedBy>
  <dcterms:modified xsi:type="dcterms:W3CDTF">2001-10-31T03:41:38Z</dcterms:modified>
  <cp:revision>5</cp:revision>
  <dc:subject/>
  <dc:title>No Slide Title</dc:title>
</cp:coreProperties>
</file>